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25C-9DF5-45E6-BE5F-B23DEEF1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67D-6987-4DCC-BED2-E0157401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C0C-8D4E-43D1-A397-17DC5C14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790-1582-4290-8E52-AA75B653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C5B3-FC25-4306-92C3-6D180FA6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C1B6-03F1-4B9A-A4D1-B15E32AA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FC82-C070-4D37-A26F-9F59E85A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CFB1-01C0-4228-9498-008C66F7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F68D-0962-4802-A022-92389353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D07C-51E3-4F07-84CD-E984DB5A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BF29-691F-4024-8717-1FECE263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F09-A89B-461D-8220-C02A142C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BE7E-CB6B-4A51-AB58-1119C49E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3177-04F6-40D4-AC82-FDDEA2D9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3C1C-514E-469D-A430-10F4A031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CC83-B6C9-4335-A46C-9E65CFF1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ABB2-0C6D-46FD-B04D-9DC5A85C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87E-CD5D-4793-9DBA-5794F4CE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B96-0239-4DD1-8550-01DEAA09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B1A-B412-499A-B41F-11653E66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410-A343-49FC-90FB-666D61B9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8EB-A6FF-4162-BAD2-692A1B8F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F70-C8AC-438C-BF22-8AFD07C2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935-7CDB-415D-B692-16F20C67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FD87-AC5D-436D-B748-86BF817F9F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06FD-D9E3-4268-B049-B26B5AB893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sis Statement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ntence is too wordy to be a good thesis stat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e Lincoln was one of the best presidents the United States has ever kn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e Lincoln was an excellent speaker,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sident of the United States, a liberator of slaves, and united the North and South at the end of the American Civil W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o Wo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e Lincoln was an excellent speaker,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sident of the United States, a liberator of slaves, and united the North and South at the end of the American Civil W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hesis statement should not be too gener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Too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ands Middle School is a good schoo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writing practice has led to improved writing skills for the students at Highlands Middle Schoo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j0286034"/>
          <p:cNvPicPr/>
          <p:nvPr/>
        </p:nvPicPr>
        <p:blipFill>
          <a:blip r:embed="rId1"/>
          <a:stretch/>
        </p:blipFill>
        <p:spPr>
          <a:xfrm>
            <a:off x="1752480" y="914400"/>
            <a:ext cx="9194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ntence is too general to be a good thesis stat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d1ec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usic makes people happ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d1ec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usic therapy is useful in relieving stress and other conditi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o 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ic makes people happ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hesis statement should not be a tit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A ti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of Li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st of living in White Plains is higher than in many other cities in the United Stat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j0286034"/>
          <p:cNvPicPr/>
          <p:nvPr/>
        </p:nvPicPr>
        <p:blipFill>
          <a:blip r:embed="rId1"/>
          <a:stretch/>
        </p:blipFill>
        <p:spPr>
          <a:xfrm>
            <a:off x="1752480" y="1143000"/>
            <a:ext cx="9194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ntence would not be a good thesis statement because it is a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815328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d1ec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ood teaching has led to an increase in ELA scores at Highlands Middle School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d1ec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ising ELA Scores at Highlands Middle School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15328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sing ELA Scores at Highlands Middle Schoo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hesis statement should not be a a fac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A f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temperature for White Plains in winter is in the 20’s and in summer is in the 80’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limate in White Plains is ideal for outdoor sports almost all year rou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j0286034"/>
          <p:cNvPicPr/>
          <p:nvPr/>
        </p:nvPicPr>
        <p:blipFill>
          <a:blip r:embed="rId1"/>
          <a:stretch/>
        </p:blipFill>
        <p:spPr>
          <a:xfrm>
            <a:off x="1905120" y="1219320"/>
            <a:ext cx="91908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ntence would not be a good thesis statement because it is a fa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d1ec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e recycling of one aluminum can saves enough energy to run a TV for three hou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d1ec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cycling is one of the most important jobs a person can do to protect our environ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thesis stat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hesis statement is the </a:t>
            </a: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main ide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n ess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ften a point you want to argue or support in an es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d1ec"/>
                </a:solidFill>
                <a:latin typeface="Arial"/>
              </a:rPr>
              <a:t>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esis statement explains to a reader the main idea of the essay, and the writer’s opinion about that id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Fa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07696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cycling of one aluminum can saves enough energy to run a TV for three hou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More Practic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9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Find the opinion words in the statement. If there are no opinion words, it is not a thesis statemen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Tell if the statement is a good thesis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hough most people believe otherwise, bats are harmless and highly beneficial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Find the opinion words in the statement. If there are no opinion words, it is not a thesis statemen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Tell if the statement is a good thesis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is essay I will discuss the crime rate in Mountain Cit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Find the opinion words in the statement. If there are no opinion words, it is not a thesis statemen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Tell if the statement is a good thesis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etic exercise is a good way to help relieve stres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Find the opinion words in the statement. If there are no opinion words, it is not a thesis statemen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Tell if the statement is a good thesis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ghlands Middle School and Eastview Middle School differ in many way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Find the opinion words in the statement. If there are no opinion words, it is not a thesis statemen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Tell if the statement is a good thesis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paper will consider the advantages and disadvantages of students having nightly homewor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Find the opinion words in the statement. If there are no opinion words, it is not a thesis statemen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Tell if the statement is a good thesis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te speech should be eliminated for many reas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ke out a piece of notebook paper and number from 1 to 10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ach of the following slides tell whether the sentence is a good or bad thesis state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od or B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y people do not like to watch violent horror movie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day’s movies do not have the emotional impact of the classic horror movies of the 1940’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hesis statement is usually one senten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is often placed in the introductory paragraph of an ess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hesis statement is a claim that can be argu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ssay will contain evidence and opinions that support the argu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od or B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p music is the best music ever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hough many people find rap music offensive, it has had a positive impact on today’s youth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od or B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enjoy white water raft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irst white water rafting trip can challenge a person both in body and spiri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od or B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86d1ec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grade students are bus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86d1ec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ife of a typical sixth grade student is challenging due to the need to succeed in extracurricular activiti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od or B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unity service projects include building shelter for the homeless, servicing meals to the hungry, providing transportation for the sick, distributing clothes, and a large number of other helpful activit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s should help others who are less fortunat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sis statements avoid the following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person (I believe, In my opinion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clear language (It seems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mpting two topics at once, even if they seem rel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k one and stick with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stating a fact . A thesis is something you plan to make an argument abou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thesis statement shou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in a </a:t>
            </a:r>
            <a:r>
              <a:rPr b="1" lang="en-US" sz="4400" spc="-1" strike="noStrike">
                <a:solidFill>
                  <a:srgbClr val="86d1ec"/>
                </a:solidFill>
                <a:latin typeface="Arial"/>
              </a:rPr>
              <a:t>topic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main idea of what you are writing abou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in an </a:t>
            </a:r>
            <a:r>
              <a:rPr b="1" lang="en-US" sz="4400" spc="-1" strike="noStrike">
                <a:solidFill>
                  <a:srgbClr val="86d1ec"/>
                </a:solidFill>
                <a:latin typeface="Arial"/>
              </a:rPr>
              <a:t>opin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bout the topic (what your attitude is toward the topic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hesis statement should not be too bro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Too 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is a magnificent place to liv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teachers make Highlands Middle School a fantastic schoo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j0286034"/>
          <p:cNvPicPr/>
          <p:nvPr/>
        </p:nvPicPr>
        <p:blipFill>
          <a:blip r:embed="rId1"/>
          <a:stretch/>
        </p:blipFill>
        <p:spPr>
          <a:xfrm>
            <a:off x="3200400" y="1828800"/>
            <a:ext cx="919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ntence is too broad to be a good thesis stat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reason to live in White Plains is because it is very close to New York Cit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untain City is a great place to liv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o Bo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te Plains is a great place to liv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hesis statement should not be too word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roblems with Highlands Middle School are that it needs a larger playground, an air conditioned gym,, restrooms connected to each classroom, running water in the classrooms, and a number of other physical changes to the buil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ands Middle School needs several changes to its facility to make it a better schoo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j0286034"/>
          <p:cNvPicPr/>
          <p:nvPr/>
        </p:nvPicPr>
        <p:blipFill>
          <a:blip r:embed="rId1"/>
          <a:stretch/>
        </p:blipFill>
        <p:spPr>
          <a:xfrm>
            <a:off x="1905120" y="1143000"/>
            <a:ext cx="919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3:30:32Z</dcterms:created>
  <dc:creator>Gay  Miller</dc:creator>
  <dc:description/>
  <dc:language>en-US</dc:language>
  <cp:lastModifiedBy>Computer Tech</cp:lastModifiedBy>
  <dcterms:modified xsi:type="dcterms:W3CDTF">2013-03-19T16:39:06Z</dcterms:modified>
  <cp:revision>30</cp:revision>
  <dc:subject/>
  <dc:title>Thesis Statement</dc:title>
</cp:coreProperties>
</file>